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98592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7339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985920" y="87339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930AA62-3E89-4CF5-81DA-7A141EA07C9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86280" y="873432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03C6C5F-32B4-4B81-B706-303C95EF88A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986280" y="873432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B031DA6-21DE-4EA2-AF36-451BAAB04D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986280" y="873432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23195A0-7080-4D4B-9160-C3E17AECC2A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986280" y="873432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21D8AA9-2C51-40C4-9156-ABF3417B55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986280" y="873432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0DACCD8-3D22-4AE5-BD25-9345AEBA2C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8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0"/>
          <p:cNvSpPr/>
          <p:nvPr/>
        </p:nvSpPr>
        <p:spPr>
          <a:xfrm>
            <a:off x="7547040" y="133200"/>
            <a:ext cx="146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104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4" marL="1762200" indent="-171360">
              <a:lnSpc>
                <a:spcPct val="88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5" marL="1762200" indent="-171360">
              <a:lnSpc>
                <a:spcPct val="88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6" marL="1762200" indent="-171360">
              <a:lnSpc>
                <a:spcPct val="88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b5b1ab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6" descr="ascr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71440" y="933480"/>
            <a:ext cx="8609040" cy="53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285840" indent="0" algn="ctr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 algn="ctr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Fusion Update 2010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0" algn="ctr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 algn="ctr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Allen R. Sanderson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0" algn="ctr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 algn="ctr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SCI Institute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 algn="ctr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University of Utah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71440" y="933480"/>
            <a:ext cx="8609040" cy="53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28584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Fusion SAP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ree year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Utah, ORNL, and LBN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upport common analysis and visualizations needs with fus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article Analysis and Visualization (integration of fastbit for query based analysis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agnetic Island Analysis and Visualizat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omparative Visualization (Experiment to Simulation and Simulation to Simulation) 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71440" y="945720"/>
            <a:ext cx="8609040" cy="529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Particles Analysis and Visualization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o supply tools to facilitate the study the affects of turbulence on the trapping state and radial diffusion of particles. Outward radial diffusion is heat transport which is bad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eployed 1.12.2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Querying based visualiz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rdening integration of Fastbit into VisIt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Converters and indexing tools for GTC and XGC Data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aders – H5Part and HDUF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rdening of VisIt to supper Queries and Particl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Interface for Persistent Particals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wo remaining effort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Interface for query selection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Cumulative queries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5470560" y="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71440" y="933480"/>
            <a:ext cx="8609040" cy="53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Magnetic Island Analysis and Visualization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Visualizing the magnetic field topology is necessary to the understanding how the plasma energy is deposited on the material wall. Energy (i.e. heat) on the wall is bad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eployed 1.12.2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opological analysis of the magnetic fiel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rdening of streamline cod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bility to continue streamline integration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bility to add additional seeds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rdening of analysis cod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daptive streamline length 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ddition of more robust O point detection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ntegration of M3D C1 Element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bility to visualize scalar/vector data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Construct Poincaré plots.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0">
              <a:lnSpc>
                <a:spcPct val="88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4440"/>
            <a:ext cx="7772400" cy="8478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441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</p:pic>
      <p:sp>
        <p:nvSpPr>
          <p:cNvPr id="60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poincare_poster_4c"/>
          <p:cNvPicPr/>
          <p:nvPr/>
        </p:nvPicPr>
        <p:blipFill>
          <a:blip r:embed="rId2"/>
          <a:stretch/>
        </p:blipFill>
        <p:spPr>
          <a:xfrm>
            <a:off x="4386240" y="1676520"/>
            <a:ext cx="23209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oincare_poster_4b"/>
          <p:cNvPicPr/>
          <p:nvPr/>
        </p:nvPicPr>
        <p:blipFill>
          <a:blip r:embed="rId3"/>
          <a:stretch/>
        </p:blipFill>
        <p:spPr>
          <a:xfrm>
            <a:off x="2052720" y="1676520"/>
            <a:ext cx="232236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poincare_poster_4d"/>
          <p:cNvPicPr/>
          <p:nvPr/>
        </p:nvPicPr>
        <p:blipFill>
          <a:blip r:embed="rId4"/>
          <a:stretch/>
        </p:blipFill>
        <p:spPr>
          <a:xfrm>
            <a:off x="2052720" y="3962520"/>
            <a:ext cx="232236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poincare_poster_4a"/>
          <p:cNvPicPr/>
          <p:nvPr/>
        </p:nvPicPr>
        <p:blipFill>
          <a:blip r:embed="rId5"/>
          <a:stretch/>
        </p:blipFill>
        <p:spPr>
          <a:xfrm>
            <a:off x="4386240" y="3962520"/>
            <a:ext cx="2322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4440"/>
            <a:ext cx="7772400" cy="8478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IslandsInIslands2.png"/>
          <p:cNvPicPr/>
          <p:nvPr/>
        </p:nvPicPr>
        <p:blipFill>
          <a:blip r:embed="rId1"/>
          <a:stretch/>
        </p:blipFill>
        <p:spPr>
          <a:xfrm>
            <a:off x="4125960" y="2028960"/>
            <a:ext cx="4051080" cy="378432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7" descr="IslandsInIslands1.png"/>
          <p:cNvPicPr/>
          <p:nvPr/>
        </p:nvPicPr>
        <p:blipFill>
          <a:blip r:embed="rId2"/>
          <a:stretch/>
        </p:blipFill>
        <p:spPr>
          <a:xfrm>
            <a:off x="531720" y="1676520"/>
            <a:ext cx="2778120" cy="441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mparative Visualization Cont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Experiment to Simulation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ynthetic diagnostic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xperimental Data stored in MDSplu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bility to get not only data but physical geometry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Requires MDSplus interface within VisIt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bility perform integration of simulation data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Use cases might require custom querie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5470560" y="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4:21:08Z</dcterms:created>
  <dc:creator>David Weinstein</dc:creator>
  <dc:description/>
  <dc:language>en-US</dc:language>
  <cp:lastModifiedBy>Allen Sanderson</cp:lastModifiedBy>
  <cp:lastPrinted>2002-07-07T18:28:39Z</cp:lastPrinted>
  <dcterms:modified xsi:type="dcterms:W3CDTF">2010-04-15T15:21:21Z</dcterms:modified>
  <cp:revision>1313</cp:revision>
  <dc:subject/>
  <dc:title>Geometric Modeling</dc:title>
</cp:coreProperties>
</file>